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EA42-3607-46C0-9342-C070C577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D0B0-3284-445A-B7B4-076DB21A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95CA-D008-4419-A6FF-62F1A4F4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32B5-F589-4E7C-9F8F-66934F08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47B5-9B18-49DF-A60C-364BF1EE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11BE-EE85-415D-A950-A56FAC9F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46B6-436F-492A-9415-BC940258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3841-B6E4-43E4-82B5-1A3C8F2F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5F24-C8C3-4C99-B7EA-E3F332AE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736B-D3C3-4337-BC67-86792AC7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46EC-2662-4E8B-AC8E-E257519D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7310-5789-4C3F-8205-E272F0F2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5108-6D28-4E83-9920-1B9039A9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4C53-01C3-44C5-9CDE-35BA4374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D969-D487-47F5-A5B8-4408DE65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A8D6-F284-499E-8A6D-A3C17CFD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782D-FED3-4E92-8A87-F6505644B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5810-EFA3-4496-9FA5-E6144D8A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49A5-1601-41C0-81FB-0CDBED02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1EFB-FA98-47A6-AB1F-FA516E40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97E7-E94C-4318-9405-35AB1F99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81A4-1F46-41E7-856A-28A86C93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A9A0-7637-43D4-A2CC-6335E946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7003-459D-4C51-93DE-EED75636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9E16-5BF0-49C4-9066-4C4385C3FE4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9EFE-4EE0-4532-AA51-8EA8E39E735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409760" y="1258920"/>
            <a:ext cx="6324480" cy="10990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Prepositions dictate the case of the noun they prece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BF1CBFF7-7C29-4726-B744-2D8157C69D8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670040" y="2666880"/>
          <a:ext cx="5330880" cy="3316320"/>
        </p:xfrm>
        <a:graphic>
          <a:graphicData uri="http://schemas.openxmlformats.org/drawingml/2006/table">
            <a:tbl>
              <a:tblPr/>
              <a:tblGrid>
                <a:gridCol w="2840040"/>
                <a:gridCol w="249084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posi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to, in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ρο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to, toward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πο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(away) fro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κ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 (out) fro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60280" y="2286000"/>
          <a:ext cx="8643960" cy="3421080"/>
        </p:xfrm>
        <a:graphic>
          <a:graphicData uri="http://schemas.openxmlformats.org/drawingml/2006/table">
            <a:tbl>
              <a:tblPr/>
              <a:tblGrid>
                <a:gridCol w="974880"/>
                <a:gridCol w="1604880"/>
                <a:gridCol w="6064200"/>
              </a:tblGrid>
              <a:tr h="15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ερ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oximately, around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ερι τον Παυλ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around Paul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erning, about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ερι ἁμαρτια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concerning si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ερ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ove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ερ την γη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above the earth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behalf of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ερ τεκνου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on behalf of a chil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ο νομ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under law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y 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ὑπο του Πετρου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by Pet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Text Box 22"/>
          <p:cNvSpPr/>
          <p:nvPr/>
        </p:nvSpPr>
        <p:spPr>
          <a:xfrm>
            <a:off x="762120" y="1428840"/>
            <a:ext cx="7619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3 Prepositions with two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AA8887C4-CDDF-4D2C-8DB8-4B85597322B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"/>
          <p:cNvSpPr/>
          <p:nvPr/>
        </p:nvSpPr>
        <p:spPr>
          <a:xfrm>
            <a:off x="762120" y="2209680"/>
            <a:ext cx="761976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3 Prepositions with two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y’ or ‘with’ occurs in English to indicat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instrumen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but in Greek th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dati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s u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B14B737F-1AB8-4009-BA5E-8C4A30DC8DA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1143000" y="10843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.2.4 Prepositions with on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62000" y="1698480"/>
          <a:ext cx="8820000" cy="4462560"/>
        </p:xfrm>
        <a:graphic>
          <a:graphicData uri="http://schemas.openxmlformats.org/drawingml/2006/table">
            <a:tbl>
              <a:tblPr/>
              <a:tblGrid>
                <a:gridCol w="1569960"/>
                <a:gridCol w="1606680"/>
                <a:gridCol w="564336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accusativ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, in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ρο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, towar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π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genitiv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away) fr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κ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ut) fr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νωπι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(place) -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νωπιον του θεου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before G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ξ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side -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ξω της οἰκα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outside the 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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ἑω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til - 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ἑω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until the Sabb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ρ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(time) 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ρο σαββατο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before Sabb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dativ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υν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υν αὐτοι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with th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3F3A07A8-0D28-4543-B7D9-41EFAE4BC92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673200" y="11955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.2.5 Elision in prepo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219320" y="1889280"/>
            <a:ext cx="7086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 front of a word beginning with a vow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47640" y="2571840"/>
          <a:ext cx="7848720" cy="1371600"/>
        </p:xfrm>
        <a:graphic>
          <a:graphicData uri="http://schemas.openxmlformats.org/drawingml/2006/table">
            <a:tbl>
              <a:tblPr/>
              <a:tblGrid>
                <a:gridCol w="4753080"/>
                <a:gridCol w="3095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, δια, ἐπι, κατα, μετα, παρα, ὑπ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op their final vow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ξω, περ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ρ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main unchang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49"/>
          <p:cNvSpPr/>
          <p:nvPr/>
        </p:nvSpPr>
        <p:spPr>
          <a:xfrm>
            <a:off x="1928880" y="4429080"/>
            <a:ext cx="670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δι’ αὐτ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through hi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περι ἁμαρτι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concerning sin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ξ οἰκι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from the hou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508320" y="4143240"/>
            <a:ext cx="1485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5314C40F-8253-4677-A8B1-976FAA83644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6"/>
          <p:cNvSpPr/>
          <p:nvPr/>
        </p:nvSpPr>
        <p:spPr>
          <a:xfrm>
            <a:off x="457200" y="160020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n English, there are two uses of 'with' or 'by‘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2298600"/>
          <a:ext cx="8229600" cy="19684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9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indicate the means by which something happens, or an instrument or agent used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helped </a:t>
                      </a:r>
                      <a:r>
                        <a:rPr b="0" lang="en-GB" sz="2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by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walking </a:t>
                      </a:r>
                      <a:r>
                        <a:rPr b="0" lang="en-GB" sz="2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with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 stick.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hit </a:t>
                      </a:r>
                      <a:r>
                        <a:rPr b="0" lang="en-GB" sz="2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by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 ston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 Box 35"/>
          <p:cNvSpPr/>
          <p:nvPr/>
        </p:nvSpPr>
        <p:spPr>
          <a:xfrm>
            <a:off x="428760" y="4572000"/>
            <a:ext cx="822960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'with' in a different sense, not meaning 'by means of' but rather 'along with':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 went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with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him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NSTRUMENTS AND AG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3EC7613E-57BB-44B3-877E-AC4F1008B4C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357120" y="928800"/>
            <a:ext cx="8382240" cy="46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stru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inanimat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object by means of which the action of the verb happens; dative - no prepos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God makes the heavens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with a wor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θεος ποιει τους ουρανους  λογ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owever, sometimes an instrument is expressed by the preposition 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+ d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NSTRUMENTS AND AG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D1CF34C9-DE37-40F5-909C-B9C38518E1D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80880" y="1444680"/>
            <a:ext cx="670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 Greek, ‘with’ and ‘by’ expres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57C7C21B-2264-4692-BF8F-CFE9FB6AF28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66680" y="2449440"/>
            <a:ext cx="9048600" cy="37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'With' meaning 'along with' rather than 'by means of';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μετ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or more rarely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υν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+ dat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depart with Peter –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ὑπαγω του Πετρο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ὁ θεος λεγει 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</a:rPr>
              <a:t>μετα τεκνων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και ποιει τον κοσμον λογῳ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d speak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with childre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makes the worl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with a wo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NSTRUMENTS AND AG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168120" y="1114560"/>
            <a:ext cx="7858440" cy="23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 agent is a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living be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means of which the action of the ver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appens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.g.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ὑπο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+ 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gospel was proclaime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by Pete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…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ὑπο του Πετρο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1409760" y="1843200"/>
            <a:ext cx="632448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Greek many words are constructed by combining a basic word with a pre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ou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αλλ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= I thr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βαλλ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I throw 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OUN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FC288A70-E137-41B2-87A9-2C777CF963A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OUN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78777D73-CEDE-41F4-8CC9-32EA3C3FA4F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304920" y="1135080"/>
            <a:ext cx="8534160" cy="51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· In Greek you cannot always deduce the meaning of a word from its par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force of both the verb and the preposition is preser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βαλλ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I throw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r the meaning is intensified or completed, though without the force of the preposition being clearly preser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λυ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I release (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υ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tself means 'I untie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r the verb is given a new meaning, which is not easily connected to the force of the preposi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ναγινωσκ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I read (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ινωσκ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tself means 'I know' and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ν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ans 'upwards' or 'again'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B460071B-02FB-4F71-AA8C-EED51ED5089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214200" y="1357200"/>
            <a:ext cx="871560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When forming compounds, the rules for th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elision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of prepositions are particularly important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γ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αγω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I lead awa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ven though a compound verb may 'contain' a preposition, the correct preposition will still be found in the sentence used in the normal way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κ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αλλω αὐτο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κ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της οἰκι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OUND 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386F0C3D-542A-4244-878B-7FADFD7C90D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00040" y="1214280"/>
            <a:ext cx="792972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gnifie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mo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ifference between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 an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ρ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and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κ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πο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3500280" y="3500280"/>
            <a:ext cx="2143440" cy="1714680"/>
          </a:xfrm>
          <a:prstGeom prst="rect">
            <a:avLst/>
          </a:prstGeom>
          <a:noFill/>
          <a:ln w="25560">
            <a:solidFill>
              <a:srgbClr val="ffec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7"/>
          <p:cNvSpPr/>
          <p:nvPr/>
        </p:nvSpPr>
        <p:spPr>
          <a:xfrm>
            <a:off x="4143240" y="3954600"/>
            <a:ext cx="8575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ffffff"/>
                </a:solidFill>
                <a:latin typeface="Gentium"/>
              </a:rPr>
              <a:t>ἐν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Straight Arrow Connector 19"/>
          <p:cNvCxnSpPr/>
          <p:nvPr/>
        </p:nvCxnSpPr>
        <p:spPr>
          <a:xfrm>
            <a:off x="1143000" y="3785760"/>
            <a:ext cx="1929600" cy="2520"/>
          </a:xfrm>
          <a:prstGeom prst="straightConnector1">
            <a:avLst/>
          </a:prstGeom>
          <a:ln w="25560">
            <a:solidFill>
              <a:srgbClr val="ffec9b"/>
            </a:solidFill>
            <a:miter/>
            <a:tailEnd len="med" type="arrow" w="med"/>
          </a:ln>
        </p:spPr>
      </p:cxnSp>
      <p:sp>
        <p:nvSpPr>
          <p:cNvPr id="94" name="TextBox 20"/>
          <p:cNvSpPr/>
          <p:nvPr/>
        </p:nvSpPr>
        <p:spPr>
          <a:xfrm>
            <a:off x="1357200" y="3071880"/>
            <a:ext cx="18576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ffffff"/>
                </a:solidFill>
                <a:latin typeface="Gentium"/>
              </a:rPr>
              <a:t>προ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21"/>
          <p:cNvCxnSpPr/>
          <p:nvPr/>
        </p:nvCxnSpPr>
        <p:spPr>
          <a:xfrm>
            <a:off x="6000840" y="3785760"/>
            <a:ext cx="1929600" cy="2520"/>
          </a:xfrm>
          <a:prstGeom prst="straightConnector1">
            <a:avLst/>
          </a:prstGeom>
          <a:ln w="25560">
            <a:solidFill>
              <a:srgbClr val="ffec9b"/>
            </a:solidFill>
            <a:miter/>
            <a:tailEnd len="med" type="arrow" w="med"/>
          </a:ln>
        </p:spPr>
      </p:cxnSp>
      <p:sp>
        <p:nvSpPr>
          <p:cNvPr id="96" name="TextBox 22"/>
          <p:cNvSpPr/>
          <p:nvPr/>
        </p:nvSpPr>
        <p:spPr>
          <a:xfrm>
            <a:off x="6357960" y="3084480"/>
            <a:ext cx="1857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ffffff"/>
                </a:solidFill>
                <a:latin typeface="Gentium"/>
              </a:rPr>
              <a:t>ἀπο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23"/>
          <p:cNvCxnSpPr/>
          <p:nvPr/>
        </p:nvCxnSpPr>
        <p:spPr>
          <a:xfrm>
            <a:off x="1143000" y="4928760"/>
            <a:ext cx="2929680" cy="2520"/>
          </a:xfrm>
          <a:prstGeom prst="straightConnector1">
            <a:avLst/>
          </a:prstGeom>
          <a:ln w="25560">
            <a:solidFill>
              <a:srgbClr val="ffec9b"/>
            </a:solidFill>
            <a:miter/>
            <a:tailEnd len="med" type="arrow" w="med"/>
          </a:ln>
        </p:spPr>
      </p:cxnSp>
      <p:cxnSp>
        <p:nvCxnSpPr>
          <p:cNvPr id="98" name="Straight Arrow Connector 25"/>
          <p:cNvCxnSpPr/>
          <p:nvPr/>
        </p:nvCxnSpPr>
        <p:spPr>
          <a:xfrm>
            <a:off x="5143320" y="4928760"/>
            <a:ext cx="2929320" cy="2520"/>
          </a:xfrm>
          <a:prstGeom prst="straightConnector1">
            <a:avLst/>
          </a:prstGeom>
          <a:ln w="25560">
            <a:solidFill>
              <a:srgbClr val="ffec9b"/>
            </a:solidFill>
            <a:miter/>
            <a:tailEnd len="med" type="arrow" w="med"/>
          </a:ln>
        </p:spPr>
      </p:cxnSp>
      <p:sp>
        <p:nvSpPr>
          <p:cNvPr id="99" name="TextBox 26"/>
          <p:cNvSpPr/>
          <p:nvPr/>
        </p:nvSpPr>
        <p:spPr>
          <a:xfrm>
            <a:off x="1500120" y="4240080"/>
            <a:ext cx="18576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ffffff"/>
                </a:solidFill>
                <a:latin typeface="Gentium"/>
              </a:rPr>
              <a:t>εἰ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7"/>
          <p:cNvSpPr/>
          <p:nvPr/>
        </p:nvSpPr>
        <p:spPr>
          <a:xfrm>
            <a:off x="6500880" y="4227480"/>
            <a:ext cx="1857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100" spc="-1" strike="noStrike">
                <a:solidFill>
                  <a:srgbClr val="ffffff"/>
                </a:solidFill>
                <a:latin typeface="Gentium"/>
              </a:rPr>
              <a:t>ἐκ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642960" y="1454040"/>
            <a:ext cx="8001000" cy="49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Eithe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1. Use a question word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ω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how? 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ου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; - where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ως βλεπεις τον θε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; - How do you see God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2. Rely on tone of voice; but when written, questions are marked with a question mar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εις τον θε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- You see G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λεπεις τον θε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; - Do you see God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 QUES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37240" y="1284120"/>
            <a:ext cx="467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sking questions is simple in Gree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26EE19CA-035E-4842-9399-E5338441A03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285840" y="1481040"/>
            <a:ext cx="8358120" cy="45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 verb in th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Indicati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(which means all the verbs we have met so far) is made negative by the addition of the word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(=‘not’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efore a vowel with a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smooth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reathing this become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κ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efore a vowel with a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rough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reathing this becaus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κ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: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 βλεπ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- I do not se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κ ἀκουουσι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- They do not he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ὐκ εὑρισκει το τεκν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– She does not find the chil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0E08D4FC-1D46-47F2-87CB-D9195B2BF20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6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NEG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71280" y="1179360"/>
            <a:ext cx="90727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1" lang="el-GR" sz="2900" spc="-1" strike="noStrike">
                <a:solidFill>
                  <a:srgbClr val="ffffff"/>
                </a:solidFill>
                <a:latin typeface="Gentium"/>
              </a:rPr>
              <a:t>ὁ κυριος ἀγει τον δουλον </a:t>
            </a:r>
            <a:r>
              <a:rPr b="1" lang="el-GR" sz="2900" spc="-1" strike="noStrike" u="sng">
                <a:solidFill>
                  <a:srgbClr val="ffffff"/>
                </a:solidFill>
                <a:uFillTx/>
                <a:latin typeface="Gentium"/>
              </a:rPr>
              <a:t>εἰς την οἰκαν</a:t>
            </a:r>
            <a:r>
              <a:rPr b="1" lang="en-GB" sz="2800" spc="-1" strike="noStrike" u="sng">
                <a:solidFill>
                  <a:srgbClr val="ffffff"/>
                </a:solidFill>
                <a:uFillTx/>
                <a:latin typeface="Gentiu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κυρι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the master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δουλ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the slave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  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ην οἰκια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the house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ster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lave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– the object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ouse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ecause it is governed by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which takes th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us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ntence = 'The master is leading the slav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into the house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1263C52E-7273-4B99-8CC6-44848DAA3C4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"/>
          <p:cNvSpPr/>
          <p:nvPr/>
        </p:nvSpPr>
        <p:spPr>
          <a:xfrm>
            <a:off x="471600" y="1500120"/>
            <a:ext cx="788652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900" spc="-1" strike="noStrike">
                <a:solidFill>
                  <a:srgbClr val="ffffff"/>
                </a:solidFill>
                <a:latin typeface="Gentium"/>
              </a:rPr>
              <a:t>ὁ κυριος ἀγει τον δουλον </a:t>
            </a:r>
            <a:r>
              <a:rPr b="1" lang="el-GR" sz="2900" spc="-1" strike="noStrike" u="sng">
                <a:solidFill>
                  <a:srgbClr val="ffffff"/>
                </a:solidFill>
                <a:uFillTx/>
                <a:latin typeface="Gentium"/>
              </a:rPr>
              <a:t>ἐκ της οἰκιας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κυρι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the master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no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δουλ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the slave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ης οἰκια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= the house –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gen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ster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lave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acc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– the object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ouse is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gen.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ecause it is governed by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which 'takes' the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genitiv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entence = 'The master leads the slav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out of the house.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'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A9123318-3665-4549-B7FC-6914E753E39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785880" y="2408400"/>
            <a:ext cx="7572240" cy="23655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H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  <a:ea typeface="Times New Roman"/>
              </a:rPr>
              <a:t>The two different factors which determine which case a noun will be in: function in the sentence or preposition. Fortunately, these two never clash.</a:t>
            </a: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-71280" y="26028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ASIC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4E12FDBB-84EB-4484-A093-DDB555C374D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647640" y="1905120"/>
            <a:ext cx="7848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1 The principle of prepositions with more than one cas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219320" y="3657600"/>
            <a:ext cx="6705360" cy="1328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The same preposition has a different meaning when it is used with a different ca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4A7E5A92-9360-41DF-8BDF-CB480B28386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73A73396-5E3B-49D8-96E1-22477C55D0A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85800" y="1353960"/>
            <a:ext cx="7772400" cy="15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2 Prepositions with thre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ffffff"/>
                </a:solidFill>
                <a:latin typeface="Gentium"/>
              </a:rPr>
              <a:t>παρα</a:t>
            </a:r>
            <a:r>
              <a:rPr b="0" lang="el-GR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Gentium"/>
              </a:rPr>
              <a:t>+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00040" y="2798640"/>
          <a:ext cx="8215200" cy="2578320"/>
        </p:xfrm>
        <a:graphic>
          <a:graphicData uri="http://schemas.openxmlformats.org/drawingml/2006/table">
            <a:tbl>
              <a:tblPr/>
              <a:tblGrid>
                <a:gridCol w="1563840"/>
                <a:gridCol w="6651360"/>
              </a:tblGrid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ion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side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εριπατει παρα την θαλασσ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he walks beside the s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om beside 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νθρωπος παρα του θε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a man from Go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tion 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side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δασκει παρα τῃ θαλασσ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he teaches beside the se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1CE0F939-FF1F-478E-8268-C06B84D38E4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04960" y="1195560"/>
            <a:ext cx="7696080" cy="12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2 Prepositions with thre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πι +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857160" y="2357280"/>
          <a:ext cx="7562880" cy="3859200"/>
        </p:xfrm>
        <a:graphic>
          <a:graphicData uri="http://schemas.openxmlformats.org/drawingml/2006/table">
            <a:tbl>
              <a:tblPr/>
              <a:tblGrid>
                <a:gridCol w="1876680"/>
                <a:gridCol w="5686200"/>
              </a:tblGrid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to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βαλλει τον ἀρτον ἐπι το βιβλι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he throws the bread onto the boo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tion 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πι της γη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on the land/earth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the time of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εριπατει ἐπι του Ἰησου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he lives in the time of Jes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70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tion 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/in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πι τοις οὐραν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in the heaven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 the basis of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ὐ περιπατει ἐπι ἀρτῳ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he does not live by brea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762120" y="1428840"/>
            <a:ext cx="7619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4.2.3 Prepositions with two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23004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MORE PREPOS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:Grammar </a:t>
            </a:r>
            <a:fld id="{591EEB79-7C6C-4ADD-B8F6-96D49941954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14200" y="2254320"/>
          <a:ext cx="8715600" cy="3531960"/>
        </p:xfrm>
        <a:graphic>
          <a:graphicData uri="http://schemas.openxmlformats.org/drawingml/2006/table">
            <a:tbl>
              <a:tblPr/>
              <a:tblGrid>
                <a:gridCol w="984240"/>
                <a:gridCol w="1722600"/>
                <a:gridCol w="6008760"/>
              </a:tblGrid>
              <a:tr h="1566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of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α τον ὀχλ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because of the crow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ough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α του ἀγγελου 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through the messenger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ording to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 νομ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according to law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ainst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 του Ἰησου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against Jesu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ετ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ter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ετα το σαββατ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after the Sabbath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–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ετα αὐτου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with hi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3:59:45Z</dcterms:created>
  <dc:creator>Sarah</dc:creator>
  <dc:description/>
  <dc:language>en-US</dc:language>
  <cp:lastModifiedBy>Sarah</cp:lastModifiedBy>
  <dcterms:modified xsi:type="dcterms:W3CDTF">2009-03-04T00:30:49Z</dcterms:modified>
  <cp:revision>57</cp:revision>
  <dc:subject/>
  <dc:title>Slide 1</dc:title>
</cp:coreProperties>
</file>